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6C2B-8CB3-4214-B8A9-39DEAE8997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A2E-ECD5-4230-8947-B69C5F451C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F00-7FB5-4D5B-A697-7EBFDF499D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E02F-7EAF-41D8-BAC4-8A9FAC5A12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2E20-04F3-4DB5-8A53-BA2FA3C249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9625-DD57-49F8-8944-F77FBB6F54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7CE-6E85-4BC2-A0E5-04E7CE5064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075-D13C-4C0E-9860-3FCAD4BB48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A86-C999-4C48-AA71-3A600E1406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357-AFE4-497D-A571-9A1C8AA8F5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CECB-16E2-4A72-9B8F-A841EE9267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496-7807-46AB-99FE-C97B05F8EB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B9B1-AD61-4ED8-874C-BC7F24DBCB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1908-3D68-4849-A3DC-DAD8C2E13A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835-D96E-4C0D-97EC-B3D8CBB464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F26-9822-43AE-BC85-C4C40ED9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BE4-2BB8-4DA0-AC4B-97D3B779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309-89E1-4419-9BD2-17B552DE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195-9E69-4610-98F5-EF5F23A2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A2F4-9AEA-4D13-B528-5963DB8A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089-0C2F-4165-9A1E-41C5F31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CFDA-F1D8-4523-A4BB-9BDF104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C3D8-FA92-426F-8B38-E1AB31E2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1FEA-72F6-440E-9947-1A7E4A27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27BE-1792-4258-96E5-DB9B9B8E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8305-DE10-474F-9C5A-52CBD31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EE0-8CC2-4287-9814-ABA22CD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F8A-BEBB-49AE-95D8-6BE9266D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C5DA-4914-4B5F-9E6E-2D9F8C3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44EA-C799-4602-9B3E-A96BB096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FF89-C2B8-4697-A4A2-6A9124B6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AC81-A2A0-43FC-9BB1-B69D0FFA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A44-ABA4-4B1F-AD7B-AE69B57E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541-E7B4-4D69-8561-2BA713BD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B7C-0EBF-4D4A-8B61-0BEABBDE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0E8-8BFF-4DF9-8EF6-CCA0822A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A25-4926-4D71-BAC2-27C1A27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B41-0DEC-4611-8DF7-FC7B9614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D2C-78A4-4560-8BB8-AF68C17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8513-868D-4770-9C4D-0D0E7D46F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F7F-4676-4F46-9298-01078B348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z, viens! – Level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1 – Deuxième Éta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mon voy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8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7" descr="14583"/>
          <p:cNvPicPr/>
          <p:nvPr/>
        </p:nvPicPr>
        <p:blipFill>
          <a:blip r:embed="rId1"/>
          <a:stretch/>
        </p:blipFill>
        <p:spPr>
          <a:xfrm>
            <a:off x="2133720" y="100476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9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7" descr="63187"/>
          <p:cNvPicPr/>
          <p:nvPr/>
        </p:nvPicPr>
        <p:blipFill>
          <a:blip r:embed="rId1"/>
          <a:stretch/>
        </p:blipFill>
        <p:spPr>
          <a:xfrm>
            <a:off x="2286000" y="10047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0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7" descr="24691"/>
          <p:cNvPicPr/>
          <p:nvPr/>
        </p:nvPicPr>
        <p:blipFill>
          <a:blip r:embed="rId1"/>
          <a:stretch/>
        </p:blipFill>
        <p:spPr>
          <a:xfrm>
            <a:off x="2209680" y="100476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7" descr="50126"/>
          <p:cNvPicPr/>
          <p:nvPr/>
        </p:nvPicPr>
        <p:blipFill>
          <a:blip r:embed="rId1"/>
          <a:stretch/>
        </p:blipFill>
        <p:spPr>
          <a:xfrm>
            <a:off x="2209680" y="9144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7" descr="53371"/>
          <p:cNvPicPr/>
          <p:nvPr/>
        </p:nvPicPr>
        <p:blipFill>
          <a:blip r:embed="rId1"/>
          <a:stretch/>
        </p:blipFill>
        <p:spPr>
          <a:xfrm>
            <a:off x="2286000" y="9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hoisissez une destination pour des vacances. Puis, regardez la présentation et dites que vous choisissez les vêtements suivants et donnez leur coule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Je choisis une écharpe rouge et une écharpe noi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59035"/>
          <p:cNvPicPr/>
          <p:nvPr/>
        </p:nvPicPr>
        <p:blipFill>
          <a:blip r:embed="rId1"/>
          <a:stretch/>
        </p:blipFill>
        <p:spPr>
          <a:xfrm>
            <a:off x="2362320" y="1219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7" descr="07007"/>
          <p:cNvPicPr/>
          <p:nvPr/>
        </p:nvPicPr>
        <p:blipFill>
          <a:blip r:embed="rId1"/>
          <a:stretch/>
        </p:blipFill>
        <p:spPr>
          <a:xfrm>
            <a:off x="2362320" y="11430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02210"/>
          <p:cNvPicPr/>
          <p:nvPr/>
        </p:nvPicPr>
        <p:blipFill>
          <a:blip r:embed="rId1"/>
          <a:stretch/>
        </p:blipFill>
        <p:spPr>
          <a:xfrm>
            <a:off x="2362320" y="100476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4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03118"/>
          <p:cNvPicPr/>
          <p:nvPr/>
        </p:nvPicPr>
        <p:blipFill>
          <a:blip r:embed="rId1"/>
          <a:stretch/>
        </p:blipFill>
        <p:spPr>
          <a:xfrm>
            <a:off x="2057400" y="9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5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7" descr="25447"/>
          <p:cNvPicPr/>
          <p:nvPr/>
        </p:nvPicPr>
        <p:blipFill>
          <a:blip r:embed="rId1"/>
          <a:stretch/>
        </p:blipFill>
        <p:spPr>
          <a:xfrm>
            <a:off x="1523880" y="2085840"/>
            <a:ext cx="2895840" cy="2895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04235"/>
          <p:cNvPicPr/>
          <p:nvPr/>
        </p:nvPicPr>
        <p:blipFill>
          <a:blip r:embed="rId2"/>
          <a:stretch/>
        </p:blipFill>
        <p:spPr>
          <a:xfrm>
            <a:off x="4800600" y="2057400"/>
            <a:ext cx="29098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8" descr="59159"/>
          <p:cNvPicPr/>
          <p:nvPr/>
        </p:nvPicPr>
        <p:blipFill>
          <a:blip r:embed="rId1"/>
          <a:stretch/>
        </p:blipFill>
        <p:spPr>
          <a:xfrm>
            <a:off x="2133720" y="928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#7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267080" y="1905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54627"/>
          <p:cNvPicPr/>
          <p:nvPr/>
        </p:nvPicPr>
        <p:blipFill>
          <a:blip r:embed="rId1"/>
          <a:stretch/>
        </p:blipFill>
        <p:spPr>
          <a:xfrm>
            <a:off x="2209680" y="10047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1-11-09T22:25:11Z</dcterms:modified>
  <cp:revision>77</cp:revision>
  <dc:subject/>
  <dc:title>Allez, viens! – Level 2</dc:title>
</cp:coreProperties>
</file>